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AF63-566C-43D8-A3C5-938DFC74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4495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33920" y="4116240"/>
            <a:ext cx="4495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55A-C787-40D1-BB53-E63A0E76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33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37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E12-4281-4FD1-B89E-5358EA20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53840" y="320040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3760" y="320040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33920" y="411624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253840" y="411624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3760" y="411624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A09-9187-4E3A-AD8A-4ED430B1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AB60-4E91-454B-94D5-486F1004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733920" y="32004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1997-F62B-4EFE-8621-1FB7E907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65DE-7985-42C4-9E52-1E5D344A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5A99-4710-412D-A3B9-17A9F3A0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ED73-C520-4EC7-86AE-88947D6A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428640" y="304920"/>
            <a:ext cx="441972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14E8-E50F-4F76-964E-B95F30C2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733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CE9D-231D-4428-9F6A-89E9ECC8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33920" y="32004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51B-F66F-49AD-BC93-70DAFE9C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7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1390-4AA9-4AAE-B0E1-B000F2E0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733920" y="4116240"/>
            <a:ext cx="4495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C85F-F531-4FED-8502-3EC43185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4495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33920" y="4116240"/>
            <a:ext cx="4495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E682-494B-433D-AA7D-4ADBEB95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733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37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C5FA-74A0-4644-9806-460ABA60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3840" y="320040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73760" y="320040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733920" y="411624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253840" y="411624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73760" y="4116240"/>
            <a:ext cx="1447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0536-8D17-4D7D-B4EA-1AD15FB9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55F-1AE0-4300-B254-7DEB7F34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93D-5179-4B71-8E8B-34E98365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089-6650-4142-89DF-B574EE35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8640" y="304920"/>
            <a:ext cx="441972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F4E-A80C-4D53-8A6E-5424964C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33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439-105B-4E91-9241-7164D9E4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37920" y="411624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D83-8BF1-4F49-A00D-28689D55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33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37920" y="3200400"/>
            <a:ext cx="219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33920" y="4116240"/>
            <a:ext cx="4495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E7F-D5B6-4548-9CD8-BBA9DC28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21896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9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C96A-D732-4B31-9EB1-0D19F75628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13B0-41C3-4742-B0DD-34796088F8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8640" y="30492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733920" y="32004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0:06Z</dcterms:modified>
  <cp:revision>53</cp:revision>
  <dc:subject/>
  <dc:title>幻灯片 1</dc:title>
</cp:coreProperties>
</file>